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Click to move the slide</a:t>
            </a:r>
            <a:endParaRPr b="0" lang="en-US" sz="3200" spc="-1" strike="noStrike">
              <a:solidFill>
                <a:srgbClr val="420000"/>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D201-E0F5-42BC-8E67-F75F57BE6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archives.gov/federal-register/laws/administrative-procedure/552.html"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2AC5-3913-4F11-8087-8733649669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D4FB8-82AB-433C-9EE1-B29396CAF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es only to complete GIS scheduled and appraised as permanent. Excludes reports, views and other products generated from the data in the GIS. The records need to be in a non-proprietary, open published standard. Documentation and metadata also must conform to published standards, such as that endorsed by the Federal Geographic Data Committ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able formats include Spatial Data Transfer Standard (SDTS) and Geographical Markup Language (GML), both of which are non-proprietary formats that we acknowledge have their limitations. (USGS is no longer supporting SDTS and GML lacks a precise and stable profile that could be maintained as a long-term archival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A has mechanisms to accept GIS records that have been appraised as permanent that do no meet our transfer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aisal is based on NARA 1441. Aim is to schedule complete set of geospatial data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A has worked with agencies to transfer some records in formats, such as Shape files. There is a published white paper on Shape files. In addition, NARA is also saving a copy of the .dbf (attribute) file from the Shape file separately in a comma separated value format to promote its long-term preserva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FA72-14CE-4C59-A6FF-FE2D711B9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liated archives are non-National Archives institutions that hold--by formal, written agreement with NARA--records that are part of the accessioned holdings of the National Archives of the United 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istics that enable specialized access include, but are not limited to: (1)  Availability of special expertise needed to interpret the records and the recordkeeping system; (2)  Availability of special equipment or specially designed facilities needed to provide ready access to records; (3)  Possession of records, manuscripts, or other research resources that provide essential context for the records; and (4)  Close association or proximity to the segment of the public most likely to desire ready access to the records. Demonstrate an institutional commitment to the long-term preservation of the records. Custodians must store and maintain records under preservation conditions that are at least equal to those that would be provided by NARA. Demonstrate the capability to protect the information in the records in accordance with the </a:t>
            </a:r>
            <a:r>
              <a:rPr b="0" lang="en-US" sz="1200" spc="-1" strike="noStrike" u="sng">
                <a:solidFill>
                  <a:srgbClr val="009999"/>
                </a:solidFill>
                <a:uFillTx/>
                <a:latin typeface="Times New Roman"/>
                <a:hlinkClick r:id="rId1"/>
              </a:rPr>
              <a:t>Freedom of Information Act (FOIA)</a:t>
            </a:r>
            <a:r>
              <a:rPr b="0" lang="en-US" sz="1200" spc="-1" strike="noStrike">
                <a:solidFill>
                  <a:srgbClr val="000000"/>
                </a:solidFill>
                <a:latin typeface="Times New Roman"/>
              </a:rPr>
              <a:t>, 5 U.S.C. 552 as amended. Records exempt from disclosure under the FOIA (5 U.S.C. 552) cannot be deposited outside the Federal government. Agree to follow NARA reference, arrangement, description, preservation, and security guidance. Agree to permit NARA to examine the records and review how they are being managed, preserved, and made available for research. Agree to notify NARA as early as possible of any substantial risk that they might not be able to continue to preserve or provide access to the rec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DC has principal responsibility to manage and distribute the nation’s climatological data, as part of the Federal Records Retention System (FR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1BC9A-1126-4542-A66B-68EA301BF0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27"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3B357-25ED-461A-A0D5-5BA45E4F6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3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C4295-DD8D-47C5-BC3B-C52FDC626D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35"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9D8C0-013E-40AA-B213-871C2BB32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82AA6-BE9E-4C8B-B20E-FC12F017D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55"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84846-87A3-4E4F-97F7-7F52170E1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5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197B8-68A0-46E5-9E20-977950E1B8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59"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745D97-367D-409A-B63A-19EE6F533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AEDB2-B6E7-49CC-9232-4A7B1987A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B655C-BEC0-428A-A337-CD87D75C0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6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96886-622D-4106-829C-FF8C63708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6"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53BBE-00D0-4E79-B95C-CD1F533C8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68"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E5C4C-918B-45ED-AC1F-D351E0513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72"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5C627-B6EB-4624-B38F-F7C566628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76"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0DA63-91C1-472A-98FA-E252DE22C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7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0382E-ED3B-4D82-BCD1-E839AA109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84"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80B30-037B-4F05-8218-F1D5DE4A3C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782DE-C510-4451-A202-1B46387D8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10"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2AD03-F2EA-4EF8-B51C-F6C46A9CE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D7124-94D1-43D2-813B-4690D19CF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FB612-233E-4456-A8E3-F567F482D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1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1D612-707B-48A0-B1C1-E9B51041A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19"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A677A-2DB0-4072-9477-5716807F0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20000"/>
              </a:solidFill>
              <a:latin typeface="Times New Roman"/>
            </a:endParaRPr>
          </a:p>
        </p:txBody>
      </p:sp>
      <p:sp>
        <p:nvSpPr>
          <p:cNvPr id="2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F498A-9650-4916-9EF1-2A64AA19A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12600">
            <a:solidFill>
              <a:srgbClr val="9933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Click to edit the title text format</a:t>
            </a:r>
            <a:endParaRPr b="0" lang="en-US" sz="32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459D-96B2-40AB-B5F0-07C66B640A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42" name="Group 8"/>
          <p:cNvGrpSpPr/>
          <p:nvPr/>
        </p:nvGrpSpPr>
        <p:grpSpPr>
          <a:xfrm>
            <a:off x="380880" y="304920"/>
            <a:ext cx="8391600" cy="5790960"/>
            <a:chOff x="380880" y="304920"/>
            <a:chExt cx="8391600" cy="5790960"/>
          </a:xfrm>
        </p:grpSpPr>
        <p:sp>
          <p:nvSpPr>
            <p:cNvPr id="43"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7"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457200" y="533160"/>
            <a:ext cx="8229600" cy="1143000"/>
          </a:xfrm>
          <a:prstGeom prst="rect">
            <a:avLst/>
          </a:prstGeom>
          <a:noFill/>
          <a:ln w="12600">
            <a:solidFill>
              <a:srgbClr val="9933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Click to edit the title text format</a:t>
            </a:r>
            <a:endParaRPr b="0" lang="en-US" sz="3200" spc="-1" strike="noStrike">
              <a:solidFill>
                <a:srgbClr val="420000"/>
              </a:solidFill>
              <a:latin typeface="Times New Roman"/>
            </a:endParaRPr>
          </a:p>
        </p:txBody>
      </p:sp>
      <p:sp>
        <p:nvSpPr>
          <p:cNvPr id="50"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3B32-E9D3-4FDC-A2AF-C6C555BE5C51}"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1371600"/>
            <a:ext cx="76960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Times New Roman"/>
              </a:rPr>
              <a:t>Geospatial Data Appraisal</a:t>
            </a:r>
            <a:endParaRPr b="0" lang="en-US" sz="2800" spc="-1" strike="noStrike">
              <a:solidFill>
                <a:srgbClr val="420000"/>
              </a:solidFill>
              <a:latin typeface="Times New Roman"/>
            </a:endParaRPr>
          </a:p>
        </p:txBody>
      </p:sp>
      <p:sp>
        <p:nvSpPr>
          <p:cNvPr id="98" name="PlaceHolder 2"/>
          <p:cNvSpPr>
            <a:spLocks noGrp="1"/>
          </p:cNvSpPr>
          <p:nvPr>
            <p:ph type="subTitle"/>
          </p:nvPr>
        </p:nvSpPr>
        <p:spPr>
          <a:xfrm>
            <a:off x="762120" y="2438280"/>
            <a:ext cx="7696080" cy="3384720"/>
          </a:xfrm>
          <a:prstGeom prst="rect">
            <a:avLst/>
          </a:prstGeom>
          <a:noFill/>
          <a:ln w="0">
            <a:noFill/>
          </a:ln>
        </p:spPr>
        <p:txBody>
          <a:bodyPr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DIIPP Meeting</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nted by Brett Abrams, Archivist</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2012</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pic>
        <p:nvPicPr>
          <p:cNvPr id="99" name="Picture 4" descr="seal175"/>
          <p:cNvPicPr/>
          <p:nvPr/>
        </p:nvPicPr>
        <p:blipFill>
          <a:blip r:embed="rId1"/>
          <a:stretch/>
        </p:blipFill>
        <p:spPr>
          <a:xfrm>
            <a:off x="5943600" y="2438280"/>
            <a:ext cx="251460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520"/>
            <a:ext cx="8229600" cy="761760"/>
          </a:xfrm>
          <a:prstGeom prst="rect">
            <a:avLst/>
          </a:prstGeom>
          <a:noFill/>
          <a:ln w="12600">
            <a:solidFill>
              <a:srgbClr val="9933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Components of Historical Value</a:t>
            </a:r>
            <a:endParaRPr b="0" lang="en-US" sz="3200" spc="-1" strike="noStrike">
              <a:solidFill>
                <a:srgbClr val="420000"/>
              </a:solidFill>
              <a:latin typeface="Times New Roman"/>
            </a:endParaRPr>
          </a:p>
        </p:txBody>
      </p:sp>
      <p:sp>
        <p:nvSpPr>
          <p:cNvPr id="101" name=""/>
          <p:cNvSpPr txBox="1"/>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aisal Disposition Justific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y research value? (do records document mission functions, would people have interest in near futur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 significant actions of Federal official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to other permanent records? Information appear elsewhere in more complete fo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685800"/>
          </a:xfrm>
          <a:prstGeom prst="rect">
            <a:avLst/>
          </a:prstGeom>
          <a:noFill/>
          <a:ln w="12600">
            <a:solidFill>
              <a:srgbClr val="9933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NARA Guidance: </a:t>
            </a:r>
            <a:r>
              <a:rPr b="0" lang="en-US" sz="2800" spc="-1" strike="noStrike">
                <a:solidFill>
                  <a:srgbClr val="420000"/>
                </a:solidFill>
                <a:latin typeface="Times New Roman"/>
              </a:rPr>
              <a:t>Geospatial Data Transfers</a:t>
            </a:r>
            <a:endParaRPr b="0" lang="en-US" sz="2800" spc="-1" strike="noStrike">
              <a:solidFill>
                <a:srgbClr val="420000"/>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anded existing guidance for GIS available in the CFR</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ptable transfer formats are in 36 CFR 1228.270 (d)(3)</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ffort to revise and expand transfer guidance by end of calendar year</a:t>
            </a:r>
            <a:endParaRPr b="0" lang="en-US" sz="2800" spc="-1" strike="noStrike">
              <a:solidFill>
                <a:srgbClr val="000000"/>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533160"/>
          </a:xfrm>
          <a:prstGeom prst="rect">
            <a:avLst/>
          </a:prstGeom>
          <a:noFill/>
          <a:ln w="12600">
            <a:solidFill>
              <a:srgbClr val="9933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Examples of Scheduled Geospatial Data</a:t>
            </a:r>
            <a:endParaRPr b="0" lang="en-US" sz="3200" spc="-1" strike="noStrike">
              <a:solidFill>
                <a:srgbClr val="420000"/>
              </a:solidFill>
              <a:latin typeface="Times New Roman"/>
            </a:endParaRPr>
          </a:p>
        </p:txBody>
      </p:sp>
      <p:sp>
        <p:nvSpPr>
          <p:cNvPr id="105" name=""/>
          <p:cNvSpPr txBox="1"/>
          <p:nvPr/>
        </p:nvSpPr>
        <p:spPr>
          <a:xfrm>
            <a:off x="457200" y="1218960"/>
            <a:ext cx="8229600" cy="4911480"/>
          </a:xfrm>
          <a:prstGeom prst="rect">
            <a:avLst/>
          </a:prstGeom>
          <a:noFill/>
          <a:ln w="0">
            <a:noFill/>
          </a:ln>
        </p:spPr>
        <p:txBody>
          <a:bodyPr anchor="t">
            <a:normAutofit/>
          </a:bodyPr>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2-05-001 142-e and 142-f   Historical Systems (GIS) and Documentation. Transfer a copy of the master to NARA.: </a:t>
            </a:r>
            <a:endParaRPr b="0" lang="en-US" sz="2000" spc="-1" strike="noStrike">
              <a:solidFill>
                <a:srgbClr val="000000"/>
              </a:solidFill>
              <a:latin typeface="Times New Roman"/>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ps With associated electronic files and metadata selected annually by the project director as permanent because they document or Illustrate a project that established a precedent for changing policy, received extensive media coverage, was reviewed at length; significant controversy, received national or international awards, and/or was the subject of extensive litigation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1-022-05-001  142d Historical Project Maps  Consult with NARA to determine an acceptable format and transfer a copy of the master file:</a:t>
            </a:r>
            <a:endParaRPr b="0" lang="en-US" sz="2000" spc="-1" strike="noStrike">
              <a:solidFill>
                <a:srgbClr val="000000"/>
              </a:solidFill>
              <a:latin typeface="Times New Roman"/>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eographical information system (data files) selected by a national project director as  permanent because they are large-scale, and national or multi-regional In scope and have sufficient informational content to document USFWS organization, geographical distribution, major land uses, or other Information not necessarily recorded elsewhere. </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609480"/>
          </a:xfrm>
          <a:prstGeom prst="rect">
            <a:avLst/>
          </a:prstGeom>
          <a:noFill/>
          <a:ln w="12600">
            <a:solidFill>
              <a:srgbClr val="9933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Additional Examples of Schedules</a:t>
            </a:r>
            <a:endParaRPr b="0" lang="en-US" sz="3200" spc="-1" strike="noStrike">
              <a:solidFill>
                <a:srgbClr val="420000"/>
              </a:solidFill>
              <a:latin typeface="Times New Roman"/>
            </a:endParaRPr>
          </a:p>
        </p:txBody>
      </p:sp>
      <p:sp>
        <p:nvSpPr>
          <p:cNvPr id="107" name=""/>
          <p:cNvSpPr txBox="1"/>
          <p:nvPr/>
        </p:nvSpPr>
        <p:spPr>
          <a:xfrm>
            <a:off x="457200" y="1447920"/>
            <a:ext cx="8229600" cy="4682880"/>
          </a:xfrm>
          <a:prstGeom prst="rect">
            <a:avLst/>
          </a:prstGeom>
          <a:noFill/>
          <a:ln w="0">
            <a:noFill/>
          </a:ln>
        </p:spPr>
        <p:txBody>
          <a:bodyPr anchor="t">
            <a:normAutofit/>
          </a:bodyPr>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1-049-98-002 52-b:  Data layers received from other governmental or commercial source and BLM has made significant alterations. Cutoff EOFY in which the layer is created or significantly altered by the BLM. Transfer copy of data to NARA at the EOFY and transfer in accordance with 36 CFR 1228.188, along with appropriate documentation (see item 52e).</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1-049-98-002 52-c: Data layers uniquely created by BLM and maintained in support of significant ongoing projects or significant decision. Cutoff EOFY in which the layer is created or significantly altered by the BLM. Transfer copy of data to NARA at the EOFY and transfer in accordance with 36 CFR 1228.188, along with appropriate documentation (see item 52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609480"/>
          </a:xfrm>
          <a:prstGeom prst="rect">
            <a:avLst/>
          </a:prstGeom>
          <a:noFill/>
          <a:ln w="12600">
            <a:solidFill>
              <a:srgbClr val="9933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0000"/>
                </a:solidFill>
                <a:latin typeface="Times New Roman"/>
              </a:rPr>
              <a:t>Additional Examples of Schedules</a:t>
            </a:r>
            <a:endParaRPr b="0" lang="en-US" sz="3200" spc="-1" strike="noStrike">
              <a:solidFill>
                <a:srgbClr val="420000"/>
              </a:solidFill>
              <a:latin typeface="Times New Roman"/>
            </a:endParaRPr>
          </a:p>
        </p:txBody>
      </p:sp>
      <p:sp>
        <p:nvSpPr>
          <p:cNvPr id="109" name=""/>
          <p:cNvSpPr txBox="1"/>
          <p:nvPr/>
        </p:nvSpPr>
        <p:spPr>
          <a:xfrm>
            <a:off x="457200" y="1295280"/>
            <a:ext cx="8229600" cy="4835520"/>
          </a:xfrm>
          <a:prstGeom prst="rect">
            <a:avLst/>
          </a:prstGeom>
          <a:noFill/>
          <a:ln w="0">
            <a:noFill/>
          </a:ln>
        </p:spPr>
        <p:txBody>
          <a:bodyPr anchor="t">
            <a:normAutofit/>
          </a:bodyPr>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1-305-07-001,19(b)2 Geographic Information System (GIS) Records: Data layers and associated metadata uniquely created or significantly altered by SPA. These records have long-term research and informational value after SPA no longer has a business purpose for the records. Transfer permanently valuable records to NARA in 5 year blocks when records are 10 years old in accordance with NARA regulations and procedures in place at the time of transfer.</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1-029-10-005, MAF/TIGER Database, Shape files: Maps of the enumerated areas surveyed in 2010 Census.</a:t>
            </a:r>
            <a:endParaRPr b="0" lang="en-US" sz="2000" spc="-1" strike="noStrike">
              <a:solidFill>
                <a:srgbClr val="000000"/>
              </a:solidFill>
              <a:latin typeface="Times New Roman"/>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chure: Tips for Scheduling Potentially Permanent Digital Geospatial Records</a:t>
            </a:r>
            <a:endParaRPr b="0" lang="en-US" sz="2000" spc="-1" strike="noStrike">
              <a:solidFill>
                <a:srgbClr val="000000"/>
              </a:solidFill>
              <a:latin typeface="Times New Roman"/>
            </a:endParaRPr>
          </a:p>
          <a:p>
            <a:pPr marL="469800" indent="-469800">
              <a:spcBef>
                <a:spcPts val="4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533160"/>
            <a:ext cx="8229600" cy="1143000"/>
          </a:xfrm>
          <a:prstGeom prst="rect">
            <a:avLst/>
          </a:prstGeom>
          <a:noFill/>
          <a:ln w="12600">
            <a:solidFill>
              <a:srgbClr val="993300"/>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0000"/>
                </a:solidFill>
                <a:latin typeface="Times New Roman"/>
              </a:rPr>
              <a:t>Sharing Long-Term Preservation: Affiliated Archives or Relationships</a:t>
            </a:r>
            <a:endParaRPr b="0" lang="en-US" sz="2800" spc="-1" strike="noStrike">
              <a:solidFill>
                <a:srgbClr val="420000"/>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niversity of North Texas Libraries, military academies, Library of Congress’ Prints and Photographs are a few of the 11 current repositories.</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 principal criteria are used by the Archivist to determine whether it is in the public interest to establish an affiliated archives. Candidate custodians must:</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specialized public access to the records and the information in the records beyond what NARA provides. </a:t>
            </a:r>
            <a:endParaRPr b="0" lang="en-US" sz="2400" spc="-1" strike="noStrike">
              <a:solidFill>
                <a:srgbClr val="000000"/>
              </a:solidFill>
              <a:latin typeface="Times New Roman"/>
            </a:endParaRPr>
          </a:p>
          <a:p>
            <a:pPr marL="469800" indent="-469800">
              <a:spcBef>
                <a:spcPts val="6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CDC: Long-Term Preservation and Access</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mage</cp:lastModifiedBy>
  <dcterms:modified xsi:type="dcterms:W3CDTF">2012-06-15T12:50:14Z</dcterms:modified>
  <cp:revision>140</cp:revision>
  <dc:subject/>
  <dc:title>PowerPoint Presentation</dc:title>
</cp:coreProperties>
</file>